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DAF-E9FC-418C-BE62-C13426D8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96D-D261-46C5-8197-B7642E06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24A-00BC-4335-80C9-C07C9AB8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8A2-80ED-43E3-AC69-120FC9C5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9CC1-E4CA-4A2C-82EA-01CAA00E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F0A2-14F3-4632-BF6E-82E3B42C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51FC-A397-43C9-8EA7-D5ACF403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7715-FBBC-42BE-A7F0-F71B2381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CA6A-0395-4EB3-ABE5-A224C017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71D2-995D-4A00-8EE2-38D4F72E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A4D4-DA97-4D4A-844A-1EFCF4D6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61E-A224-472D-8D6B-C23FFAAF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A7D8-049C-4421-B56B-57A9B2C2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6BA4-91AC-49E2-B74F-2C17FE7B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5085-34FE-4275-B717-A7277FA8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23C7-DA31-4F00-88B1-30FBB4F0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884D-6E71-4D16-B0C4-4DA9E03A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E08-1C60-441F-A945-D11141E0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B5E-09D4-4D3D-A683-1CECF9E2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510-2546-473E-A84D-AED1636C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31E-DBF6-47FC-82F6-A99F0689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259-A88C-473E-A17D-9B68103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FF3-E31C-4B12-9828-8ABEFA0F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296-B76E-47DF-AEB9-179A6DE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0D18-ADC6-42B9-8CE6-1E65065BBE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5FB3-A67F-486B-A38D-7FFD06FE14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e, Reuse, and Recyc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MCj04135240000[1]"/>
          <p:cNvPicPr/>
          <p:nvPr/>
        </p:nvPicPr>
        <p:blipFill>
          <a:blip r:embed="rId1"/>
          <a:stretch/>
        </p:blipFill>
        <p:spPr>
          <a:xfrm>
            <a:off x="533520" y="3505320"/>
            <a:ext cx="2590560" cy="24778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>
            <a:hlinkClick r:id="" action="ppaction://hlinkshowjump?jump=nextslide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Reduce, Reuse, and Recycle."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EHS Kids' P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13 June 2007. 1 Oct. 2007 &lt;http://kids.niehs.nih.gov/recycle.htm&gt;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to Energy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y Kid’s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2006. 1 Oc. 2007 &lt;http://www.eia.doe.gov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Wast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is anything released into the environment that could have a negative impact on that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American throws away 4.5 pounds of trash (waste) a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could be anything from paper to diapers or food to batter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nextslide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Cj04344510000[1]"/>
          <p:cNvPicPr/>
          <p:nvPr/>
        </p:nvPicPr>
        <p:blipFill>
          <a:blip r:embed="rId1"/>
          <a:stretch/>
        </p:blipFill>
        <p:spPr>
          <a:xfrm>
            <a:off x="5257800" y="76320"/>
            <a:ext cx="15620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n I do to help?: The Three R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means to make something smaller or use less, resulting in a smaller amount of was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ing something means to use a material again in its original form, or to give it to someone else who can us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ycling is when you save a reusable material and take it to where it can be made into something ne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MCj02328920000[1]"/>
          <p:cNvPicPr/>
          <p:nvPr/>
        </p:nvPicPr>
        <p:blipFill>
          <a:blip r:embed="rId1"/>
          <a:stretch/>
        </p:blipFill>
        <p:spPr>
          <a:xfrm>
            <a:off x="228600" y="4952880"/>
            <a:ext cx="11905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DUC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less; buy only what you need and use all of what you bu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urable items instead of disposable ones.  For example, buy plastic plates that you can used many times instead of paper ones that you throw away after one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 store bags.  Carry the items you purchase from the store by hand, or bring your own cloth bag to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MPj03877650000[1]"/>
          <p:cNvPicPr/>
          <p:nvPr/>
        </p:nvPicPr>
        <p:blipFill>
          <a:blip r:embed="rId1"/>
          <a:stretch/>
        </p:blipFill>
        <p:spPr>
          <a:xfrm>
            <a:off x="5791320" y="228600"/>
            <a:ext cx="1087200" cy="15238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79246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US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ate used clothes to Goodwill or other char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loth diapers instead of disposable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bicycle breaks, fix it instead of throwing it away and getting a new bi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>
            <a:hlinkClick r:id="" action="ppaction://hlinkshowjump?jump=nextslide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MPj02161700000[1]"/>
          <p:cNvPicPr/>
          <p:nvPr/>
        </p:nvPicPr>
        <p:blipFill>
          <a:blip r:embed="rId1"/>
          <a:stretch/>
        </p:blipFill>
        <p:spPr>
          <a:xfrm>
            <a:off x="5562720" y="22860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RECYCL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everything at home and school can be recycled!  Check to see how your community recy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hrow anything away that can be recycled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recyclable material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minum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tic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MCj04299870000[1]"/>
          <p:cNvPicPr/>
          <p:nvPr/>
        </p:nvPicPr>
        <p:blipFill>
          <a:blip r:embed="rId1"/>
          <a:stretch/>
        </p:blipFill>
        <p:spPr>
          <a:xfrm>
            <a:off x="4724280" y="3886200"/>
            <a:ext cx="1730520" cy="18097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">
            <a:hlinkClick r:id="" action="ppaction://hlinkshowjump?jump=nextslide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z: Which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e of the three R’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Cj04344110000[1]"/>
          <p:cNvPicPr/>
          <p:nvPr/>
        </p:nvPicPr>
        <p:blipFill>
          <a:blip r:embed="rId1"/>
          <a:stretch/>
        </p:blipFill>
        <p:spPr>
          <a:xfrm>
            <a:off x="4343400" y="2666880"/>
            <a:ext cx="2844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ps!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back and read, then try again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4238520000[1]"/>
          <p:cNvPicPr/>
          <p:nvPr/>
        </p:nvPicPr>
        <p:blipFill>
          <a:blip r:embed="rId1"/>
          <a:stretch/>
        </p:blipFill>
        <p:spPr>
          <a:xfrm>
            <a:off x="2971800" y="2819520"/>
            <a:ext cx="2922480" cy="3733560"/>
          </a:xfrm>
          <a:prstGeom prst="rect">
            <a:avLst/>
          </a:prstGeom>
          <a:ln w="0">
            <a:noFill/>
          </a:ln>
        </p:spPr>
      </p:pic>
      <p:pic>
        <p:nvPicPr>
          <p:cNvPr id="125" name="MSj01795.wav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/>
          <p:cNvSpPr/>
          <p:nvPr/>
        </p:nvSpPr>
        <p:spPr>
          <a:xfrm>
            <a:off x="76960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9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!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correc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Cj04280650000[1]"/>
          <p:cNvPicPr/>
          <p:nvPr/>
        </p:nvPicPr>
        <p:blipFill>
          <a:blip r:embed="rId1"/>
          <a:stretch/>
        </p:blipFill>
        <p:spPr>
          <a:xfrm>
            <a:off x="1523880" y="2819520"/>
            <a:ext cx="6324840" cy="38559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>
            <a:hlinkClick r:id="" action="ppaction://hlinkshowjump?jump=nextslide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MSj01795.wav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9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23:43:54Z</dcterms:created>
  <dc:creator>Sony</dc:creator>
  <dc:description/>
  <dc:language>en-US</dc:language>
  <cp:lastModifiedBy>Victoria Joy</cp:lastModifiedBy>
  <dcterms:modified xsi:type="dcterms:W3CDTF">2012-04-17T17:54:15Z</dcterms:modified>
  <cp:revision>17</cp:revision>
  <dc:subject/>
  <dc:title>Recycling</dc:title>
</cp:coreProperties>
</file>